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5783-38C0-4A17-8422-D68C4925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DB4-5B69-445F-989D-61C54519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43D3-0A26-4166-9256-1DBA2617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6AA-3FAB-4024-99FB-3FA72F53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44B-45F3-4F2C-91EA-ECC0F0F1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B3E-F609-46A2-BF55-4487CD43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C4F-2A2A-4696-99B6-7C4C39E8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4251-C35E-4DE3-ACE8-666F4B50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D4A-5855-472E-B2F2-857F8032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C166-95E9-49A4-837A-3AE3CE99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B230-F981-4FB1-85B6-7372EF19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B51-AD30-43BC-A798-1B5939DA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9D12-B0F4-44D0-B7AA-79B38C06B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ANd9GcTxry6T-DJRBmRg1f20UjA971d8-ki0dbnIhZTRCw1MpJ_0zic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ine Fer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Ian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ANd9GcSH0r2GVnSrsVALebm0ysIM_vnVC8HOZotpfIJS6iF1zr7iriW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ein buch gele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4086360" y="2724120"/>
            <a:ext cx="9712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4086360" y="2724120"/>
            <a:ext cx="9712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15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http://t2.gstatic.com/images?q=tbn:ANd9GcTFX6TKLiOErgXjq6SfLXfvs6AeLTopebWhoLTGxb0jOhqiP7eu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viele essen gegess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63360" y="-91116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63360" y="-91116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9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t0.gstatic.com/images?q=tbn:ANd9GcTEeeNZ2QchiMOFByjNAhAC6OX4Qew14Bkj0TH9-lrqZoaao_w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wasser getru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41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http://t1.gstatic.com/images?q=tbn:ANd9GcSExp35JPo6j9_Kbrr0OL6aTRiBspmzCI6bxepnSOGx5aM1C5CD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lebensmittel gekau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63360" y="-698400"/>
            <a:ext cx="12956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63360" y="-698400"/>
            <a:ext cx="12956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3360" y="-698400"/>
            <a:ext cx="12956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46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http://t1.gstatic.com/images?q=tbn:ANd9GcTyO7_aM6HzjHhVWW5MSnAK-FxgzlIuDrYBB0Slu5izMHSCwjX_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ar sehr gefaulenz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75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1" descr="http://t1.gstatic.com/images?q=tbn:ANd9GcSKY9KWQTFsWtRRnbJlh7rnsWzwHlGUT3JzWAerThCIA2SZ-xtR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adelphia hat mir gut gef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63360" y="-690480"/>
            <a:ext cx="2133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63360" y="-690480"/>
            <a:ext cx="2133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78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http://t3.gstatic.com/images?q=tbn:ANd9GcRT7y7zLfElaZ5E_KNKpicGcJlGlts16vq5Mw7l57VI650twgAXe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 musst in Philadelphia ge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84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Nd9GcR4l7urgGu9skOq39Rgp6zGRW4_drVEVOcblmh8z4vBRBsrl1l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ar in Philadelphia, Pennsylva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orded Sound" descr=""/>
          <p:cNvPicPr/>
          <p:nvPr/>
        </p:nvPicPr>
        <p:blipFill>
          <a:blip r:embed="rId2"/>
          <a:stretch/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9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http://t1.gstatic.com/images?q=tbn:ANd9GcQDiG6d_fdwwGpON6hzDmMnB2VEUYzYeF5KC_B24A81rlopOq_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im hau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nachten meine schwe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63360" y="-843120"/>
            <a:ext cx="264816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63360" y="-843120"/>
            <a:ext cx="264816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63360" y="-851040"/>
            <a:ext cx="2610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63360" y="-851040"/>
            <a:ext cx="2610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5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ANd9GcRCcyS-p0JjR7LBaEMSW0dImUO8EnZh6DEuBNQCUgEdTWWOppk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iladelphia habe ich ein phili cheese steak geges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74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a4.sphotos.ak.fbcdn.net/photos-ak-snc1/v4561/78/48/591070849/n591070849_2773224_6846310.jpg"/>
          <p:cNvPicPr/>
          <p:nvPr/>
        </p:nvPicPr>
        <p:blipFill>
          <a:blip r:embed="rId1"/>
          <a:stretch/>
        </p:blipFill>
        <p:spPr>
          <a:xfrm>
            <a:off x="0" y="-6840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mit den hunden meiner schwester gespie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90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ANd9GcTn2MUm3DAKOwALmRN_cvCrC9dZJrA-0rY40hkhn-zGOaJcp7cTU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Madden NFL 2011 gema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11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ANd9GcSn2E-VCIfKUgwHHTmyhXSeP5Caicr79v_le3v7pOJldelI2fM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zu Hooter’s gewesen, und es war sehr teu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3728880" y="2900520"/>
            <a:ext cx="168624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3728880" y="2900520"/>
            <a:ext cx="168624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3790800" y="2995560"/>
            <a:ext cx="15624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15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http://a3.sphotos.ak.fbcdn.net/hphotos-ak-snc4/76163_495544255849_591070849_7143793_4935769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mein nichte gespie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90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ANd9GcSKUDyV3xkd7viEdGgRPfp9XL2SlWVKneR4Nne0QpxNb9-9EKQm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gewand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69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8:09:29Z</dcterms:created>
  <dc:creator>CUSD220</dc:creator>
  <dc:description/>
  <dc:language>en-US</dc:language>
  <cp:lastModifiedBy>Tina Adams</cp:lastModifiedBy>
  <dcterms:modified xsi:type="dcterms:W3CDTF">2011-11-21T01:56:48Z</dcterms:modified>
  <cp:revision>22</cp:revision>
  <dc:subject/>
  <dc:title> </dc:title>
</cp:coreProperties>
</file>